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08B31F-95F6-4361-903D-A225965404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E3D346-F2ED-4991-90B3-216D991D2D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548480-3A57-4B38-BA72-5A134DC0A1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E91F86-51CF-45E5-9FDD-4C232FC923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3E4481-1FEF-4EDC-A823-0E0C9FBE3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B280E-4157-4346-B42D-89E36E03A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19F1F-73D7-4CF6-B57C-16B0271C8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455EB-0517-4983-BBC9-1465B617D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B5166-7B88-44AF-93EE-75F2AC85A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3D02F-4F92-42F7-AE73-8DCD17A79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705DF-4ACF-4FE7-8557-73164E062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E36AE9-6A2C-4855-8FC1-174729A5D7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E2018-47A9-4856-923A-084246D53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53013-9F9E-44FB-BB08-491F9EDB5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F7792-7BB7-4066-8BC0-0B6C41746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8C7311-54E6-4B77-A6CC-45B81A35B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ABA50-22F1-4AFE-AEAA-0CB69E0C0C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6F9DCE-112A-4852-AE39-9A7EEB6533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810141-91F4-438E-96DE-956DB3F9A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BFC0B6-55BC-4C8E-BA33-61F91410C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E6F770-9A31-4228-95BA-2EA2CE399A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4C30AF-70F1-4DD6-BE8F-995D743D22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CBD1B0-7427-4659-89C3-109ED2926E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058349-B643-4BB5-B7A3-948814C74B1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E166-BA51-49D9-9264-C4D1726F0F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6D04-924B-4F4E-B2B5-2F2AF7E8C5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7d"/>
                </a:solidFill>
                <a:latin typeface="Arial"/>
              </a:rPr>
              <a:t>Software Inspections – 5 </a:t>
            </a:r>
            <a:br>
              <a:rPr sz="5000"/>
            </a:br>
            <a:r>
              <a:rPr b="0" lang="en-US" sz="5000" spc="-1" strike="noStrike">
                <a:solidFill>
                  <a:srgbClr val="00007d"/>
                </a:solidFill>
                <a:latin typeface="Arial"/>
              </a:rPr>
              <a:t>– Inspection Process</a:t>
            </a:r>
            <a:endParaRPr b="0" lang="en-US" sz="5000" spc="-1" strike="noStrike">
              <a:solidFill>
                <a:srgbClr val="000000"/>
              </a:solidFill>
              <a:latin typeface="Arial"/>
            </a:endParaRPr>
          </a:p>
        </p:txBody>
      </p:sp>
      <p:sp>
        <p:nvSpPr>
          <p:cNvPr id="106" name="PlaceHolder 2"/>
          <p:cNvSpPr>
            <a:spLocks noGrp="1"/>
          </p:cNvSpPr>
          <p:nvPr>
            <p:ph type="subTitle"/>
          </p:nvPr>
        </p:nvSpPr>
        <p:spPr>
          <a:xfrm>
            <a:off x="1182600" y="3779640"/>
            <a:ext cx="6778800" cy="16556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19</a:t>
            </a:r>
            <a:endParaRPr b="0" lang="en-US" sz="3400" spc="-1" strike="noStrike">
              <a:solidFill>
                <a:srgbClr val="000000"/>
              </a:solidFill>
              <a:latin typeface="Arial"/>
            </a:endParaRPr>
          </a:p>
        </p:txBody>
      </p:sp>
      <p:sp>
        <p:nvSpPr>
          <p:cNvPr id="1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8FE4-DF09-49EB-984D-EC9A26528C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041E-76A3-4877-9AD2-396602DC48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work: Validation/Verification - 1</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up activity is scheduled; where the rework will be verified by the moderator or assigned designe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A has reviewed sample results of this activity in the pro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D041-6F04-4330-B248-2C1C16F235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work: Validation/Verification - 2</a:t>
            </a:r>
            <a:endParaRPr b="0" lang="en-US" sz="40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gathered during this activit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time was spent in rework</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open issues were resolved and accepted as defec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open issues became submitted change reque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612D-47A7-4A82-B64F-9F3E685FF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work: Exit Criteria</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er resolves all defects and open issu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ed work product materials are updated to account for repai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FF86A-8962-4764-97CB-75A1842CE2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Follow-Up</a:t>
            </a:r>
            <a:endParaRPr b="0" lang="en-US" sz="5000" spc="-1" strike="noStrike">
              <a:solidFill>
                <a:srgbClr val="000000"/>
              </a:solidFill>
              <a:latin typeface="Arial"/>
            </a:endParaRPr>
          </a:p>
        </p:txBody>
      </p:sp>
      <p:sp>
        <p:nvSpPr>
          <p:cNvPr id="143" name="PlaceHolder 2"/>
          <p:cNvSpPr>
            <a:spLocks noGrp="1"/>
          </p:cNvSpPr>
          <p:nvPr>
            <p:ph type="subTitle"/>
          </p:nvPr>
        </p:nvSpPr>
        <p:spPr>
          <a:xfrm>
            <a:off x="1182600" y="3779640"/>
            <a:ext cx="6778800" cy="1655640"/>
          </a:xfrm>
          <a:prstGeom prst="rect">
            <a:avLst/>
          </a:prstGeom>
          <a:noFill/>
          <a:ln w="0">
            <a:noFill/>
          </a:ln>
        </p:spPr>
        <p:txBody>
          <a:bodyPr lIns="0" rIns="0" tIns="0" bIns="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B9CC-D204-41BC-8470-855B4F98DC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llow-Up</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ies that all defects and open issues have been adequately fixed, resolved, and closed o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A895-D71B-4204-8854-338FA47760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llow-up: Responsibility</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is the individual primarily responsible for reviewing repairs. The moderator will also review the producer’s decisions on repairs and change requests. The moderator may delegate some or all of this respons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6DDA-55AB-4912-BD30-CA33C250A0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llow-up: Other Roles</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er is to provide an explanation of the repairs and closures ma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D866-152E-41F6-9EBE-1C1C8A0610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llow-up: Entry Criteria</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ork of defects has been completed; i.e., fixed or identified with a decision to not fix</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ducer has completed the rework for defects and open issues resolved to be defect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requests are written for any defects or open issues not resolv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rator concurs with the producer’s decisions on defects, open issues, and change reque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2E6E-5F2F-4265-ADCE-EC5F936CF9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llow-up: Tasks - 1</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and producer discuss and agree on compliance with respect to defects and open issu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ase of disagreement, the issue would be resolved by the project lea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er updates the work product to reflect the fixes to defects found and open issues accepted as de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B62D-FF70-475C-A27D-90D6241C30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llow-up: Tasks - 2</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er writes any change requests that may be requir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completes the inspection report and marks the inspection as clo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p and Today’s Lecture: Inspection Process</a:t>
            </a:r>
            <a:endParaRPr b="0" lang="en-US" sz="4400" spc="-1" strike="noStrike">
              <a:solidFill>
                <a:srgbClr val="000000"/>
              </a:solidFill>
              <a:latin typeface="Arial"/>
            </a:endParaRPr>
          </a:p>
        </p:txBody>
      </p:sp>
      <p:sp>
        <p:nvSpPr>
          <p:cNvPr id="109" name=""/>
          <p:cNvSpPr txBox="1"/>
          <p:nvPr/>
        </p:nvSpPr>
        <p:spPr>
          <a:xfrm>
            <a:off x="457200" y="1980720"/>
            <a:ext cx="8229600" cy="3886200"/>
          </a:xfrm>
          <a:prstGeom prst="rect">
            <a:avLst/>
          </a:prstGeom>
          <a:noFill/>
          <a:ln w="0">
            <a:noFill/>
          </a:ln>
        </p:spPr>
        <p:txBody>
          <a:bodyPr anchor="t">
            <a:normAutofit fontScale="95000"/>
          </a:bodyPr>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lanning and scheduling</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verview</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eparation</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spection meeting</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alysis meeting</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ork</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up</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meeting</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ecording and reports</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ection process monitoring</a:t>
            </a:r>
            <a:endParaRPr b="0" lang="en-US" sz="2400" spc="-1" strike="noStrike">
              <a:solidFill>
                <a:srgbClr val="000000"/>
              </a:solidFill>
              <a:latin typeface="Arial"/>
            </a:endParaRPr>
          </a:p>
        </p:txBody>
      </p:sp>
      <p:sp>
        <p:nvSpPr>
          <p:cNvPr id="1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D7B30-5EE9-4B32-A6C0-EEE382E3C7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3980-0F3F-49C9-A8D9-4B2A180A96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llow-up: Validation/Verification - 1</a:t>
            </a:r>
            <a:endParaRPr b="0" lang="en-US" sz="32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concurs with the defect repairs and open issue closur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er reviews the final inspection rep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A group reviews the final inspection re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DD42-EC7A-442F-B6A0-D4F52D1452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llow-up: Validation/Verification - 2</a:t>
            </a:r>
            <a:endParaRPr b="0" lang="en-US" sz="32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gathered during this activit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time was spent in follow-up</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open issues were dispu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AEC7-F93C-4C9E-B103-D0F8A53E6A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llow-up: Exit Criteria</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change requests resulting from unresolved open issues have been submitted to the change approval process for handling</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pection report is completed and the producer agrees</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ecessary, a re-inspection is scheduled</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ecessary, issues are escalated to the project lead for resolution</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pection is noted as clo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F005-6949-4033-9E43-94C2B70AB8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revention Meeting</a:t>
            </a:r>
            <a:endParaRPr b="0" lang="en-US" sz="5000" spc="-1" strike="noStrike">
              <a:solidFill>
                <a:srgbClr val="000000"/>
              </a:solidFill>
              <a:latin typeface="Arial"/>
            </a:endParaRPr>
          </a:p>
        </p:txBody>
      </p:sp>
      <p:sp>
        <p:nvSpPr>
          <p:cNvPr id="173" name="PlaceHolder 2"/>
          <p:cNvSpPr>
            <a:spLocks noGrp="1"/>
          </p:cNvSpPr>
          <p:nvPr>
            <p:ph type="subTitle"/>
          </p:nvPr>
        </p:nvSpPr>
        <p:spPr>
          <a:xfrm>
            <a:off x="1182600" y="3779640"/>
            <a:ext cx="6778800" cy="1655640"/>
          </a:xfrm>
          <a:prstGeom prst="rect">
            <a:avLst/>
          </a:prstGeom>
          <a:noFill/>
          <a:ln w="0">
            <a:noFill/>
          </a:ln>
        </p:spPr>
        <p:txBody>
          <a:bodyPr lIns="0" rIns="0" tIns="0" bIns="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9DEF6-9475-4203-B742-C11F7687C2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ention Meeting</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held periodically after sets of inspections have been performed to determine probable causes for selected defect types, instances, or patter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data about de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E498-0930-4244-A2BD-79E0CA79C5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vention Meeting: Responsibility</a:t>
            </a:r>
            <a:endParaRPr b="0" lang="en-US" sz="40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vention team leader for the prevention meeting will record the results of the meeting and deliver proposals for actions to the organization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E6E3-98B3-47CD-AFEC-06BA5B5E81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vention Meeting: Other Roles</a:t>
            </a:r>
            <a:endParaRPr b="0" lang="en-US" sz="36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mbers of the prevention meeting team will participate to determine actions for probable causes of selected defect ty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E36F-F257-473B-9C94-12DD7DE149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vention Meeting: Entry Criteria</a:t>
            </a:r>
            <a:endParaRPr b="0" lang="en-US" sz="40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spection meeting was hel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alysis meeting was hel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data including causes are available to the prevention meeting te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A8BF-D4F1-45CD-8985-9B9E4A79B5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ention Meeting: Tasks</a:t>
            </a: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data from the prevention mee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proposed actions to be taken for defect preven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preparation for the proposals to be presented to management for dec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C65C-9BE6-4400-AFD1-266977018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vention Meeting: Validation/Verification - 1</a:t>
            </a:r>
            <a:endParaRPr b="0" lang="en-US" sz="40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vention team has met based on the defined cycles for the meetin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A reviews sampled repor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PG reviews proposed actions and resultant actions ta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46B5-F80F-46B6-ADD6-7123FB4D7E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Rework</a:t>
            </a:r>
            <a:endParaRPr b="0" lang="en-US" sz="5000" spc="-1" strike="noStrike">
              <a:solidFill>
                <a:srgbClr val="000000"/>
              </a:solidFill>
              <a:latin typeface="Arial"/>
            </a:endParaRPr>
          </a:p>
        </p:txBody>
      </p:sp>
      <p:sp>
        <p:nvSpPr>
          <p:cNvPr id="113" name="PlaceHolder 2"/>
          <p:cNvSpPr>
            <a:spLocks noGrp="1"/>
          </p:cNvSpPr>
          <p:nvPr>
            <p:ph type="subTitle"/>
          </p:nvPr>
        </p:nvSpPr>
        <p:spPr>
          <a:xfrm>
            <a:off x="1182600" y="3779640"/>
            <a:ext cx="6778800" cy="1655640"/>
          </a:xfrm>
          <a:prstGeom prst="rect">
            <a:avLst/>
          </a:prstGeom>
          <a:noFill/>
          <a:ln w="0">
            <a:noFill/>
          </a:ln>
        </p:spPr>
        <p:txBody>
          <a:bodyPr lIns="0" rIns="0" tIns="0" bIns="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0527-BB8B-4C7A-822C-B700EB1D0D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vention Meeting: Validation/Verification - 2</a:t>
            </a:r>
            <a:endParaRPr b="0" lang="en-US" sz="40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gathered during this activit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in the prevention meet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ort invested at the meet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proposals brought forward to managemen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actions taken from propos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2F24-1FC5-451F-BBDA-A60700A820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ention Meeting: Exit Criteria</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is complete and agreed to by the prevention meeting particip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068C-1B47-44A9-BAB7-03CADE9662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Data Recording and Reports</a:t>
            </a:r>
            <a:endParaRPr b="0" lang="en-US" sz="5000" spc="-1" strike="noStrike">
              <a:solidFill>
                <a:srgbClr val="000000"/>
              </a:solidFill>
              <a:latin typeface="Arial"/>
            </a:endParaRPr>
          </a:p>
        </p:txBody>
      </p:sp>
      <p:sp>
        <p:nvSpPr>
          <p:cNvPr id="200" name="PlaceHolder 2"/>
          <p:cNvSpPr>
            <a:spLocks noGrp="1"/>
          </p:cNvSpPr>
          <p:nvPr>
            <p:ph type="subTitle"/>
          </p:nvPr>
        </p:nvSpPr>
        <p:spPr>
          <a:xfrm>
            <a:off x="1182600" y="3779640"/>
            <a:ext cx="6778800" cy="1655640"/>
          </a:xfrm>
          <a:prstGeom prst="rect">
            <a:avLst/>
          </a:prstGeom>
          <a:noFill/>
          <a:ln w="0">
            <a:noFill/>
          </a:ln>
        </p:spPr>
        <p:txBody>
          <a:bodyPr lIns="0" rIns="0" tIns="0" bIns="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C4EF-E07C-4197-B659-0295D2BCA0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ecording and Reports</a:t>
            </a:r>
            <a:endParaRPr b="0" lang="en-US" sz="4400" spc="-1" strike="noStrike">
              <a:solidFill>
                <a:srgbClr val="000000"/>
              </a:solidFill>
              <a:latin typeface="Arial"/>
            </a:endParaRPr>
          </a:p>
        </p:txBody>
      </p:sp>
      <p:sp>
        <p:nvSpPr>
          <p:cNvPr id="20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cord the data about the defects and conduct of the inspe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ctivity is held concurrently with other activities, including at the end of the inspection pro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69770-A5AE-47F2-907A-EBE9523C0C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Recording and Reports: Responsibility</a:t>
            </a:r>
            <a:endParaRPr b="0" lang="en-US" sz="4000" spc="-1" strike="noStrike">
              <a:solidFill>
                <a:srgbClr val="000000"/>
              </a:solidFill>
              <a:latin typeface="Arial"/>
            </a:endParaRPr>
          </a:p>
        </p:txBody>
      </p:sp>
      <p:sp>
        <p:nvSpPr>
          <p:cNvPr id="20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corder during the overview, inspection meeting, and optional analysis meeting records data about the defects and the conduct of the inspe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ly the moderator can enter the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EF31-4070-424A-A71A-A519404139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Recording and Reports: Other Roles</a:t>
            </a:r>
            <a:endParaRPr b="0" lang="en-US" sz="32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after the overview and during the follow-up activity ensures that the data has been entered correctly and complet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2246-31AE-412D-B90F-1336CF3DDF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Recording and Reports: Entry Criteria</a:t>
            </a:r>
            <a:endParaRPr b="0" lang="en-US" sz="2800" spc="-1" strike="noStrike">
              <a:solidFill>
                <a:srgbClr val="000000"/>
              </a:solidFill>
              <a:latin typeface="Arial"/>
            </a:endParaRPr>
          </a:p>
        </p:txBody>
      </p:sp>
      <p:sp>
        <p:nvSpPr>
          <p:cNvPr id="21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tional overview meeting was hel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pection meeting was hel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tional analysis meeting was h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B77F-7909-45F8-AEF6-207A5677AA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Recording and Reports: Tasks</a:t>
            </a:r>
            <a:endParaRPr b="0" lang="en-US" sz="4000" spc="-1" strike="noStrike">
              <a:solidFill>
                <a:srgbClr val="000000"/>
              </a:solidFill>
              <a:latin typeface="Arial"/>
            </a:endParaRPr>
          </a:p>
        </p:txBody>
      </p:sp>
      <p:sp>
        <p:nvSpPr>
          <p:cNvPr id="21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data from overview, if hel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data at the inspection meeting, including preparation dat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data at the optional analysis mee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data during the follow-up activity, including sign-off to close the insp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1612A-84C4-4BB5-8F9A-5627AE6FFA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Recording and Reports: Validation/Verification - 1</a:t>
            </a:r>
            <a:endParaRPr b="0" lang="en-US" sz="4000" spc="-1" strike="noStrike">
              <a:solidFill>
                <a:srgbClr val="000000"/>
              </a:solidFill>
              <a:latin typeface="Arial"/>
            </a:endParaRPr>
          </a:p>
        </p:txBody>
      </p:sp>
      <p:sp>
        <p:nvSpPr>
          <p:cNvPr id="2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pection verifies the data at the end of the inspection meeting and optional analysis mee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A review sampled repor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er reviews the report completed by the moder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AA572-8D3D-4C94-B778-6DDFF510FA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Recording and Reports: Validation/Verification - 2</a:t>
            </a:r>
            <a:endParaRPr b="0" lang="en-US" sz="4000" spc="-1" strike="noStrike">
              <a:solidFill>
                <a:srgbClr val="000000"/>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hould be considered for this activity; e.g., how much effort is used for recording and repor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1FCAA-C3FF-4C58-9E53-F1CDF4AC61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work</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es identified defects and resolves any open issues noted during the inspe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ome cases, the repair may require a Change request to be written because of the nature or impact of the def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5F6A-EBC0-43E4-B508-5816034457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Recording and Reports: Exit Criteria</a:t>
            </a:r>
            <a:endParaRPr b="0" lang="en-US" sz="4000" spc="-1" strike="noStrike">
              <a:solidFill>
                <a:srgbClr val="000000"/>
              </a:solidFill>
              <a:latin typeface="Arial"/>
            </a:endParaRPr>
          </a:p>
        </p:txBody>
      </p:sp>
      <p:sp>
        <p:nvSpPr>
          <p:cNvPr id="22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are complete and agreed to by the inspection meeting and analysis meeting participa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gathered during the follow-up activity are complete and agreed to by the producer and moder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B9EA8-8F29-44B6-B828-5E57EDE754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Inspection Process Monitoring</a:t>
            </a:r>
            <a:endParaRPr b="0" lang="en-US" sz="5000" spc="-1" strike="noStrike">
              <a:solidFill>
                <a:srgbClr val="000000"/>
              </a:solidFill>
              <a:latin typeface="Arial"/>
            </a:endParaRPr>
          </a:p>
        </p:txBody>
      </p:sp>
      <p:sp>
        <p:nvSpPr>
          <p:cNvPr id="227" name="PlaceHolder 2"/>
          <p:cNvSpPr>
            <a:spLocks noGrp="1"/>
          </p:cNvSpPr>
          <p:nvPr>
            <p:ph type="subTitle"/>
          </p:nvPr>
        </p:nvSpPr>
        <p:spPr>
          <a:xfrm>
            <a:off x="1182600" y="3779640"/>
            <a:ext cx="6778800" cy="1655640"/>
          </a:xfrm>
          <a:prstGeom prst="rect">
            <a:avLst/>
          </a:prstGeom>
          <a:noFill/>
          <a:ln w="0">
            <a:noFill/>
          </a:ln>
        </p:spPr>
        <p:txBody>
          <a:bodyPr lIns="0" rIns="0" tIns="0" bIns="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2168-8384-4AAE-9178-D3FC7A256F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Process Monitoring</a:t>
            </a:r>
            <a:endParaRPr b="0" lang="en-US" sz="4400" spc="-1" strike="noStrike">
              <a:solidFill>
                <a:srgbClr val="000000"/>
              </a:solidFill>
              <a:latin typeface="Arial"/>
            </a:endParaRPr>
          </a:p>
        </p:txBody>
      </p:sp>
      <p:sp>
        <p:nvSpPr>
          <p:cNvPr id="2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ctivity is held concurrently with other activities and after inspec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is to evaluate the results of the inspection process as performed in the organization and to propose suggestions for impro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DAEF-66F3-4767-8396-AE94247593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Process Monitoring: Responsibility</a:t>
            </a:r>
            <a:endParaRPr b="0" lang="en-US" sz="4000" spc="-1" strike="noStrike">
              <a:solidFill>
                <a:srgbClr val="000000"/>
              </a:solidFill>
              <a:latin typeface="Arial"/>
            </a:endParaRPr>
          </a:p>
        </p:txBody>
      </p:sp>
      <p:sp>
        <p:nvSpPr>
          <p:cNvPr id="2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pection process coordinator or SEPG is responsible for monitoring and suggesting improv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BFA0-0A51-47A1-A9E7-49AF76E4F8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Process Monitoring: Other Roles</a:t>
            </a:r>
            <a:endParaRPr b="0" lang="en-US" sz="4000" spc="-1" strike="noStrike">
              <a:solidFill>
                <a:srgbClr val="000000"/>
              </a:solidFill>
              <a:latin typeface="Arial"/>
            </a:endParaRPr>
          </a:p>
        </p:txBody>
      </p:sp>
      <p:sp>
        <p:nvSpPr>
          <p:cNvPr id="23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ensures that inspection process monitoring is integrated into the inspection pro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pection process improvement team proposes actions for inspection process improvements based on the monitoring and analysis of the inspection coordin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8669-0579-4689-B434-439F1BFDFD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Process Monitoring: Entry Criteria</a:t>
            </a:r>
            <a:endParaRPr b="0" lang="en-US" sz="4000" spc="-1" strike="noStrike">
              <a:solidFill>
                <a:srgbClr val="0000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s and results from inspections over a period of performance are availab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ordinator is assign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 are allocated for inspection process improvement te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041D-266F-446F-8011-D7AC06805C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Process Monitoring: Tasks - 1</a:t>
            </a:r>
            <a:endParaRPr b="0" lang="en-US" sz="4000" spc="-1" strike="noStrike">
              <a:solidFill>
                <a:srgbClr val="000000"/>
              </a:solidFill>
              <a:latin typeface="Arial"/>
            </a:endParaRPr>
          </a:p>
        </p:txBody>
      </p:sp>
      <p:sp>
        <p:nvSpPr>
          <p:cNvPr id="2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 the inspection process data provided since the last monitoring rep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inspection reports and related data for trends and results against objectiv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 inspection participants to ensure understanding of results and to gather other inpu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81F44-70CC-4A38-A3CD-2140CEEDA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Process Monitoring: Tasks - 2</a:t>
            </a:r>
            <a:endParaRPr b="0" lang="en-US" sz="4000" spc="-1" strike="noStrike">
              <a:solidFill>
                <a:srgbClr val="000000"/>
              </a:solidFill>
              <a:latin typeface="Arial"/>
            </a:endParaRPr>
          </a:p>
        </p:txBody>
      </p:sp>
      <p:sp>
        <p:nvSpPr>
          <p:cNvPr id="24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analysis using data from the inspection reports, interviews, and survey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the analysis to the inspection process improvement team for review and proposal to management for inspection process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8F93-B0CE-42AC-9307-78B30D086B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Process Monitoring: Validation/Verification - 1</a:t>
            </a:r>
            <a:endParaRPr b="0" lang="en-US" sz="4000" spc="-1" strike="noStrike">
              <a:solidFill>
                <a:srgbClr val="000000"/>
              </a:solidFill>
              <a:latin typeface="Arial"/>
            </a:endParaRPr>
          </a:p>
        </p:txBody>
      </p:sp>
      <p:sp>
        <p:nvSpPr>
          <p:cNvPr id="248"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pection coordinator performs monitoring actions per agreed periods for analysis</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pection process action improvement team meets per agreed periods for recommendations</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A reviews monitoring activity on a random basis to ensure it is being perfo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C5F7-D8DF-46CD-A73B-274C7EF56A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Process Monitoring: Validation/Verification - 2</a:t>
            </a:r>
            <a:endParaRPr b="0" lang="en-US" sz="4000" spc="-1" strike="noStrike">
              <a:solidFill>
                <a:srgbClr val="000000"/>
              </a:solidFill>
              <a:latin typeface="Arial"/>
            </a:endParaRPr>
          </a:p>
        </p:txBody>
      </p:sp>
      <p:sp>
        <p:nvSpPr>
          <p:cNvPr id="25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gathered during this activit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effort is expend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proposals for improvement are mad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improvements are put into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A596-F7EE-4137-813D-FD50D644C4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 Issues in Rework</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en issue is accepted as a defect and repair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en issue becomes a change request for further investig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en issue was incorrectly identified as  potential defect and is closed as a non-def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397D-7E06-43A8-9381-681682BBC7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Process Monitoring: Exit Criteria</a:t>
            </a:r>
            <a:endParaRPr b="0" lang="en-US" sz="4000" spc="-1" strike="noStrike">
              <a:solidFill>
                <a:srgbClr val="000000"/>
              </a:solidFill>
              <a:latin typeface="Arial"/>
            </a:endParaRPr>
          </a:p>
        </p:txBody>
      </p:sp>
      <p:sp>
        <p:nvSpPr>
          <p:cNvPr id="25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s of analysis are develop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for improvements are propos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are implemented for inspection process improv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BD1D-F3AD-4488-9DF6-54991819B4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5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Inspections by Ronald A. Radice, Tata-McGraw Hill, 2003 (Chapter 3.8-3.12)</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EDA8-C9CC-42F6-9373-799F4ED6E2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work: Responsibility</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er is responsible for all open issues, fixing all defects, and writing any change reque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E349-D54F-4BB9-BC4A-B3FA221C1A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work: Other Roles</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or designee is assigned to discuss open issues with the producer during rework and to come to concurrence with the produ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DC3E-6CF7-4817-B3AE-D903E55695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work: Entry Criteria</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st of defects and open issues is provided to the producer for res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or someone assigned meets with the producer to review rework and open issu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pection report is completed, is on file, and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9AB5-5C57-4B73-B1E6-BC825E9D0A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work: Task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ducer repairs accepted defects identified during the inspection meeting</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ducer resolves any open issue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rator meets with the producer to discuss resolutions of open issue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requests are written for any open issues or defects not resolved during the rework activit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ther the minor defect list or marked work products with minor defects noted are used to repair the minor def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15:43:24Z</dcterms:created>
  <dc:creator>Ghulam Ahmad Farrukh</dc:creator>
  <dc:description/>
  <dc:language>en-US</dc:language>
  <cp:lastModifiedBy>ahmadmohsin</cp:lastModifiedBy>
  <dcterms:modified xsi:type="dcterms:W3CDTF">2009-05-30T04:30:09Z</dcterms:modified>
  <cp:revision>433</cp:revision>
  <dc:subject/>
  <dc:title>Software Inspections</dc:title>
</cp:coreProperties>
</file>